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F29-D60B-4A7D-ADE7-DA323322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179-6740-416C-A2C6-AB6E4524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18C-964B-444C-B60B-7A48BB87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545-4720-4895-BFD0-7BD69130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AAE-3617-4090-9D08-A69663A1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748-11F8-4F7C-BC81-E4AA2E3E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4DA-DF7E-4461-9972-5F5F4683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A73-A544-4B31-8F5A-0AAE651B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622-DA2E-436E-8482-57874CD8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9BB-3304-4A4F-8C15-D60194C9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CD4-976C-499C-88C5-D503E3F8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C0A-6FF0-4538-92A7-9641AC87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3A46-317D-4997-ACA1-E9D4F272F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3149280"/>
            <a:ext cx="8440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20124d"/>
                </a:solidFill>
                <a:latin typeface="trebuchet ms"/>
              </a:rPr>
              <a:t>Desertificati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rebuchet ms"/>
              </a:rPr>
              <a:t>What is desertification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36360"/>
            <a:ext cx="9664560" cy="62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rtification is degradation of drylands ecosystems by climate variations and human activ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lands occupy 41% of the Earth's land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lands are areas that are characterized by a lack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- scrublands, grasslands, and sava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20% of drylands are already affected by desertification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876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876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rebuchet ms"/>
              </a:rPr>
              <a:t>Why Should We Car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ertification causes the 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wers food and fresh water sources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ss of water purification and climate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ss of cultural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How can we cause i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9760" y="1820880"/>
            <a:ext cx="966312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d966"/>
                </a:solidFill>
                <a:latin typeface="Arial"/>
              </a:rPr>
              <a:t>Desertification can be caused by humans throug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d966"/>
                </a:solidFill>
                <a:latin typeface="Arial"/>
              </a:rPr>
              <a:t>the following: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verfarming of the lan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Removal of vege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Poor irrig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Defores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ver population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1c232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ow can it be prevented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Desertification can be prevented by the following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Integrating land and water manage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Protecting veget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Mixing farming and grazing method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an it be reversed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920" y="1015920"/>
            <a:ext cx="966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ertification can be reversed and the land restored through the following method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2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2cc"/>
                </a:solidFill>
                <a:latin typeface="Arial"/>
              </a:rPr>
              <a:t>Establishing seed bank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2cc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2cc"/>
                </a:solidFill>
                <a:latin typeface="Arial"/>
              </a:rPr>
              <a:t>A place where seeds are stored for long term preservation or short term farming.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2cc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erracing to counter ero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nriching the soil with nutr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ing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YouTube Video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http://www.youtube.com/watch?v=ivcMMPzmKk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ientific Facts on Desertification.”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reen Fact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N.p., 2006. Web. 10 Feb. 2011. &lt;http://www.greenfacts.org/‌en/‌desertification/‌index.htm&gt;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Causes Desertification?”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as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N.p., 2006. Web. 10 Feb. 2011. &lt;http:///www.oasisglobal.net/‌what_cause.htm&gt;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